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B7EE-C95E-4887-BA2A-0BA57A7A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7349-5598-48E4-9A90-47F4D8C7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27A9-6EB2-4967-A2C0-85021717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D9DB-0BC6-46D3-BA59-41DE6AE8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9A79-8A3C-4C10-82B4-977360E1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99C9-F397-49C5-9B29-992DD089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67C8-F18C-4F13-8C16-BB902B39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2513-59BE-4D8F-A3DC-E2C972CE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7946-870F-426A-96E0-4C1A0528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FB73-5912-406F-8481-D7163D6D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B6F5-6842-42D3-A3BB-84490A29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EB5F-2028-492E-898F-1BA4D7D7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A595-47E1-40E4-819F-52F8A513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0096-5D6C-41CA-A374-07E1946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8526-8357-4903-9590-FE895747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4114-5ABC-42DB-B605-BB72D3CF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82B6-5BF5-4F2F-AFBE-7AB8B890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A3FC-6133-4838-8604-C31D3363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133A-8037-4BF8-91B6-613F31B4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FBA4-4DE7-49E4-9395-1280B29E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02C9-2CF7-4F8E-A334-8820EF55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BA38-3286-465A-9B5F-D813B689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6BF1-5423-4459-B0EA-1D30B623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42C6-829F-4D86-882A-AB97E5C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345E-6D1B-4F72-8317-65323CDFA2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C257-59AE-4A6E-9FC3-03AB2FF55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novomilenio.inf.br/ano97/maod.jpg&amp;imgrefurl=http://novomilenio.inf.br/ano97/cpmcom07.htm&amp;h=298&amp;w=250&amp;sz=9&amp;hl=en&amp;start=1&amp;tbnid=uIMP1EsLsFlPBM:&amp;tbnh=111&amp;tbnw=93&amp;prev=/images%3Fq%3DNumere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ro/imgres?imgurl=http://andreiard.ro/images/20050329_cfr_185-8537.jpg&amp;imgrefurl=http://andreiard.ro/%3Fm%3D200503&amp;h=506&amp;w=650&amp;sz=121&amp;hl=en&amp;start=7&amp;tbnid=5yPiKVvh4u-_BM:&amp;tbnh=105&amp;tbnw=135&amp;prev=/images%3Fq%3DNumere%26svnum%3D10%26hl%3Den%26lr%3D%26sa%3D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utopia-entertainment.ro/images/mandinga_2005_1_mare.jpg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hyperlink" Target="http://images.google.ro/imgres?imgurl=http://www.cg-gc.ro/cgro/images/products/fullimages/250.jpg&amp;imgrefurl=http://www.cg-gc.ro/cgro/product.php%3Fid_product%3D250&amp;h=200&amp;w=200&amp;sz=20&amp;hl=en&amp;start=46&amp;tbnid=hT-YcMlFE9nE0M:&amp;tbnh=99&amp;tbnw=99&amp;prev=/images%3Fq%3DNumere%26start%3D40%26ndsp%3D20%26svnum%3D10%26hl%3Den%26lr%3D%26sa%3DN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watch.md/ro_casio_oceanus.htm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images.google.ro/imgres?imgurl=http://www.alcedoltd.ro/images/reviste.jpg&amp;imgrefurl=http://www.alcedoltd.ro/index.php%3Fp%3Dpublicatii&amp;h=400&amp;w=400&amp;sz=28&amp;hl=en&amp;start=12&amp;tbnid=B4QPuGL5im3jqM:&amp;tbnh=120&amp;tbnw=120&amp;prev=/images%3Fq%3DReviste%26svnum%3D10%26hl%3Den%26lr%3D%26sa%3DG" TargetMode="Externa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 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057400"/>
            <a:ext cx="885600" cy="10573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05740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2057400"/>
            <a:ext cx="1371600" cy="919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7"/>
          <a:stretch/>
        </p:blipFill>
        <p:spPr>
          <a:xfrm>
            <a:off x="6400800" y="1905120"/>
            <a:ext cx="2071800" cy="33526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720" y="3581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casio oceanu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743200" y="3581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19720" y="3581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22" name="">
            <a:hlinkClick r:id="" action="ppaction://hlinkshowjump?jump=nextslide"/>
          </p:cNvPr>
          <p:cNvSpPr/>
          <p:nvPr/>
        </p:nvSpPr>
        <p:spPr>
          <a:xfrm>
            <a:off x="685800" y="5257800"/>
            <a:ext cx="1066680" cy="30492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0743" y="3794"/>
                </a:moveTo>
                <a:lnTo>
                  <a:pt x="44756" y="10800"/>
                </a:lnTo>
                <a:lnTo>
                  <a:pt x="30743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562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finiţ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525780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52578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3794"/>
                </a:moveTo>
                <a:lnTo>
                  <a:pt x="39368" y="10800"/>
                </a:lnTo>
                <a:lnTo>
                  <a:pt x="2535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0040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Valo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525780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1972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uncţie în propoziţ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391520" y="5334120"/>
            <a:ext cx="609480" cy="10666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1066680"/>
              <a:gd name="textAreaBottom" fmla="*/ 1027440 h 1066680"/>
            </a:gdLst>
            <a:ahLst/>
            <a:rect l="textAreaLeft" t="textAreaTop" r="textAreaRight" b="textAreaBottom"/>
            <a:pathLst>
              <a:path w="21600" h="37794">
                <a:moveTo>
                  <a:pt x="0" y="0"/>
                </a:moveTo>
                <a:lnTo>
                  <a:pt x="21600" y="0"/>
                </a:lnTo>
                <a:lnTo>
                  <a:pt x="21600" y="37794"/>
                </a:lnTo>
                <a:lnTo>
                  <a:pt x="0" y="37794"/>
                </a:lnTo>
                <a:close/>
              </a:path>
              <a:path fill="lightenLess" w="21600" h="37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94">
                <a:moveTo>
                  <a:pt x="21600" y="0"/>
                </a:moveTo>
                <a:lnTo>
                  <a:pt x="21600" y="37794"/>
                </a:lnTo>
                <a:lnTo>
                  <a:pt x="20200" y="36394"/>
                </a:lnTo>
                <a:lnTo>
                  <a:pt x="20200" y="1400"/>
                </a:lnTo>
                <a:close/>
              </a:path>
              <a:path fill="darkenLess" w="21600" h="37794">
                <a:moveTo>
                  <a:pt x="21600" y="37794"/>
                </a:moveTo>
                <a:lnTo>
                  <a:pt x="0" y="37794"/>
                </a:lnTo>
                <a:lnTo>
                  <a:pt x="1400" y="36394"/>
                </a:lnTo>
                <a:lnTo>
                  <a:pt x="20200" y="36394"/>
                </a:lnTo>
                <a:close/>
              </a:path>
              <a:path fill="lighten" w="21600" h="37794">
                <a:moveTo>
                  <a:pt x="0" y="37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94"/>
                </a:lnTo>
                <a:close/>
              </a:path>
              <a:path fill="darkenLess" w="21600" h="37794">
                <a:moveTo>
                  <a:pt x="5273" y="12082"/>
                </a:moveTo>
                <a:lnTo>
                  <a:pt x="12271" y="12082"/>
                </a:lnTo>
                <a:lnTo>
                  <a:pt x="16327" y="15581"/>
                </a:lnTo>
                <a:lnTo>
                  <a:pt x="16327" y="25712"/>
                </a:lnTo>
                <a:lnTo>
                  <a:pt x="5273" y="25712"/>
                </a:lnTo>
                <a:close/>
              </a:path>
              <a:path fill="darken" w="21600" h="37794">
                <a:moveTo>
                  <a:pt x="12271" y="12082"/>
                </a:moveTo>
                <a:lnTo>
                  <a:pt x="16327" y="15581"/>
                </a:lnTo>
                <a:lnTo>
                  <a:pt x="12271" y="15581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64911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xerci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8000" spc="-1" strike="noStrike">
                <a:solidFill>
                  <a:srgbClr val="ffffff"/>
                </a:solidFill>
                <a:latin typeface="Arial"/>
              </a:rPr>
              <a:t>Complemen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L-am ascultat pe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al doilea</a:t>
            </a: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029200" y="4952880"/>
            <a:ext cx="3429000" cy="0"/>
          </a:xfrm>
          <a:prstGeom prst="line">
            <a:avLst/>
          </a:prstGeom>
          <a:ln w="57240">
            <a:solidFill>
              <a:srgbClr val="df1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firstslide"/>
          </p:cNvPr>
          <p:cNvSpPr/>
          <p:nvPr/>
        </p:nvSpPr>
        <p:spPr>
          <a:xfrm>
            <a:off x="7543800" y="5410080"/>
            <a:ext cx="914400" cy="106704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067040"/>
              <a:gd name="textAreaBottom" fmla="*/ 1008000 h 1067040"/>
            </a:gdLst>
            <a:ahLst/>
            <a:rect l="textAreaLeft" t="textAreaTop" r="textAreaRight" b="textAreaBottom"/>
            <a:pathLst>
              <a:path w="21600" h="25204">
                <a:moveTo>
                  <a:pt x="0" y="0"/>
                </a:moveTo>
                <a:lnTo>
                  <a:pt x="21600" y="0"/>
                </a:lnTo>
                <a:lnTo>
                  <a:pt x="21600" y="25204"/>
                </a:lnTo>
                <a:lnTo>
                  <a:pt x="0" y="25204"/>
                </a:lnTo>
                <a:close/>
              </a:path>
              <a:path fill="lightenLess" w="21600" h="252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4">
                <a:moveTo>
                  <a:pt x="21600" y="0"/>
                </a:moveTo>
                <a:lnTo>
                  <a:pt x="21600" y="25204"/>
                </a:lnTo>
                <a:lnTo>
                  <a:pt x="20200" y="23804"/>
                </a:lnTo>
                <a:lnTo>
                  <a:pt x="20200" y="1400"/>
                </a:lnTo>
                <a:close/>
              </a:path>
              <a:path fill="darkenLess" w="21600" h="25204">
                <a:moveTo>
                  <a:pt x="21600" y="25204"/>
                </a:moveTo>
                <a:lnTo>
                  <a:pt x="0" y="25204"/>
                </a:lnTo>
                <a:lnTo>
                  <a:pt x="1400" y="23804"/>
                </a:lnTo>
                <a:lnTo>
                  <a:pt x="20200" y="23804"/>
                </a:lnTo>
                <a:close/>
              </a:path>
              <a:path fill="lighten" w="21600" h="25204">
                <a:moveTo>
                  <a:pt x="0" y="252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4"/>
                </a:lnTo>
                <a:close/>
              </a:path>
              <a:path fill="darken" w="21600" h="25204">
                <a:moveTo>
                  <a:pt x="10800" y="5639"/>
                </a:moveTo>
                <a:lnTo>
                  <a:pt x="13376" y="8250"/>
                </a:lnTo>
                <a:lnTo>
                  <a:pt x="13376" y="6510"/>
                </a:lnTo>
                <a:lnTo>
                  <a:pt x="15152" y="6510"/>
                </a:lnTo>
                <a:lnTo>
                  <a:pt x="15152" y="10026"/>
                </a:lnTo>
                <a:lnTo>
                  <a:pt x="17763" y="12602"/>
                </a:lnTo>
                <a:lnTo>
                  <a:pt x="16109" y="12602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2"/>
                </a:lnTo>
                <a:lnTo>
                  <a:pt x="3837" y="12602"/>
                </a:lnTo>
                <a:close/>
              </a:path>
              <a:path fill="darkenLess" w="21600" h="25204">
                <a:moveTo>
                  <a:pt x="13376" y="8250"/>
                </a:moveTo>
                <a:lnTo>
                  <a:pt x="13376" y="6510"/>
                </a:lnTo>
                <a:lnTo>
                  <a:pt x="15152" y="6510"/>
                </a:lnTo>
                <a:lnTo>
                  <a:pt x="15152" y="10026"/>
                </a:lnTo>
                <a:close/>
              </a:path>
              <a:path fill="darkenLess" w="21600" h="25204">
                <a:moveTo>
                  <a:pt x="9877" y="16101"/>
                </a:moveTo>
                <a:lnTo>
                  <a:pt x="11723" y="16101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2"/>
                </a:lnTo>
                <a:lnTo>
                  <a:pt x="5491" y="12602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 </a:t>
            </a:r>
            <a:r>
              <a:rPr b="1" lang="ro-RO" sz="5400" spc="-1" strike="noStrike">
                <a:solidFill>
                  <a:srgbClr val="ffff66"/>
                </a:solidFill>
                <a:latin typeface="Arial"/>
              </a:rPr>
              <a:t>Exerciţii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lecat-am nouă din Vaslu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cu sergentul zece, 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Trei zile-n urmă am răzbi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rin Dunărea bătrân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nu departe-am tăbărâ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e Plevna blestemat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tunuri sute bubuiau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Se clătina pământu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mii de bombe vâjâi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Trecând în zbor ca vântul.”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(V. Alecsandri, Peneş Curcanu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 </a:t>
            </a:r>
            <a:r>
              <a:rPr b="1" lang="ro-RO" sz="5400" spc="-1" strike="noStrike">
                <a:solidFill>
                  <a:srgbClr val="ffff66"/>
                </a:solidFill>
                <a:latin typeface="Arial"/>
              </a:rPr>
              <a:t>Exerciţii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(…) Pe-atunci, bărbaţii din casa noastră, cei de la …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şapte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ani în sus, eram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doi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: eu şi tata. Ceilalţi fraţi ai mei, mai mici, unul de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cinci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, şi altul de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trei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ani, rămâneau cu surorile şi cu mama în casă. O vară întreagă dormisem cu tata în fân! Trecusem în clasa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a II-a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, împlinisem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şapte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ani, eram mare deci.”</a:t>
            </a: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(G. Şovu, La porţile iadulu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 </a:t>
            </a:r>
            <a:r>
              <a:rPr b="1" lang="ro-RO" sz="5400" spc="-1" strike="noStrike">
                <a:solidFill>
                  <a:srgbClr val="ffff66"/>
                </a:solidFill>
                <a:latin typeface="Arial"/>
              </a:rPr>
              <a:t>Exerciţii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“ 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! eu nu dorm niciodată în tren, zice negustorul… Ştiţi, umblu cu bani… Pungaşii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u, drept să-ţi spun, nu m-am gândit niciodată. S-o fi întâmplat aşa </a:t>
            </a:r>
            <a:r>
              <a:rPr b="0" lang="ro-RO" sz="24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cc00"/>
                </a:solidFill>
                <a:latin typeface="Arial"/>
              </a:rPr>
              <a:t>dată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Numai </a:t>
            </a:r>
            <a:r>
              <a:rPr b="0" lang="ro-RO" sz="24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cc00"/>
                </a:solidFill>
                <a:latin typeface="Arial"/>
              </a:rPr>
              <a:t>dată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În clasa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întâi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Tocmai în clasa întâia, fireşte, zice negustorul. Mie, ce să-ţi spui? Miţe frică… Glumă e să mai arză o dată o avere de om…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Patruzeci de mii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de franci!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Mă rog – zice provincialul – trenul acesta mai opreşte undeva până la Ploieşti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a … la Periş,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două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min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(I. L. Caragiale, Accelerat </a:t>
            </a:r>
            <a:r>
              <a:rPr b="0" i="1" lang="ro-RO" sz="24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0" i="1" lang="ro-RO" sz="2400" spc="-1" strike="noStrike">
                <a:solidFill>
                  <a:srgbClr val="ffff66"/>
                </a:solidFill>
                <a:latin typeface="Arial"/>
              </a:rPr>
              <a:t>17</a:t>
            </a:r>
            <a:r>
              <a:rPr b="0" i="1" lang="ro-RO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dfdef6"/>
                </a:solidFill>
                <a:latin typeface="Arial"/>
              </a:rPr>
              <a:t>Bibliografie 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ROGRAME ŞCOLARE PENTRU CLASA A IV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LIMBA ŞI LITERATURA ROMÂ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APROBAT PRIN ORDIN AL MINISTRULUI  NR. 3919 / 20.04.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ROGRAME ŞCOLARE PENTRU CLASA A III-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LIMBA ŞI LITERATURA ROMÂ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Valerica Schinteie, Radu Dimitrie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Limba română pentru un debut reuşit în clasa a V-a , Ed. Brumar, Timişoara 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firstslide"/>
          </p:cNvPr>
          <p:cNvSpPr/>
          <p:nvPr/>
        </p:nvSpPr>
        <p:spPr>
          <a:xfrm>
            <a:off x="7696080" y="548640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" w="21600" h="26998">
                <a:moveTo>
                  <a:pt x="10800" y="6536"/>
                </a:moveTo>
                <a:lnTo>
                  <a:pt x="13376" y="9147"/>
                </a:lnTo>
                <a:lnTo>
                  <a:pt x="13376" y="7406"/>
                </a:lnTo>
                <a:lnTo>
                  <a:pt x="15152" y="7406"/>
                </a:lnTo>
                <a:lnTo>
                  <a:pt x="15152" y="10923"/>
                </a:lnTo>
                <a:lnTo>
                  <a:pt x="17763" y="13499"/>
                </a:lnTo>
                <a:lnTo>
                  <a:pt x="16109" y="13499"/>
                </a:lnTo>
                <a:lnTo>
                  <a:pt x="16109" y="20688"/>
                </a:lnTo>
                <a:lnTo>
                  <a:pt x="5491" y="20688"/>
                </a:lnTo>
                <a:lnTo>
                  <a:pt x="5491" y="13499"/>
                </a:lnTo>
                <a:lnTo>
                  <a:pt x="3837" y="13499"/>
                </a:lnTo>
                <a:close/>
              </a:path>
              <a:path fill="darkenLess" w="21600" h="26998">
                <a:moveTo>
                  <a:pt x="13376" y="9147"/>
                </a:moveTo>
                <a:lnTo>
                  <a:pt x="13376" y="7406"/>
                </a:lnTo>
                <a:lnTo>
                  <a:pt x="15152" y="7406"/>
                </a:lnTo>
                <a:lnTo>
                  <a:pt x="15152" y="10923"/>
                </a:lnTo>
                <a:close/>
              </a:path>
              <a:path fill="darkenLess" w="21600" h="26998">
                <a:moveTo>
                  <a:pt x="9877" y="16998"/>
                </a:moveTo>
                <a:lnTo>
                  <a:pt x="11723" y="16998"/>
                </a:lnTo>
                <a:lnTo>
                  <a:pt x="11723" y="20688"/>
                </a:lnTo>
                <a:lnTo>
                  <a:pt x="16109" y="20688"/>
                </a:lnTo>
                <a:lnTo>
                  <a:pt x="16109" y="13499"/>
                </a:lnTo>
                <a:lnTo>
                  <a:pt x="5491" y="13499"/>
                </a:lnTo>
                <a:lnTo>
                  <a:pt x="5491" y="20688"/>
                </a:lnTo>
                <a:lnTo>
                  <a:pt x="9877" y="20688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df1c17"/>
                </a:solidFill>
                <a:latin typeface="Arial"/>
              </a:rPr>
              <a:t>Numeralul</a:t>
            </a:r>
            <a:r>
              <a:rPr b="1" lang="ro-RO" sz="8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52280" y="2209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ff"/>
                </a:solidFill>
                <a:latin typeface="Arial"/>
              </a:rPr>
              <a:t>Este partea de vorbire care exprimă :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Un număr :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tre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cinc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optsprezec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două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sut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Numărul obiectelor :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două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caiet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zec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copii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Ordinea obiectelor prin numărare :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primul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al doile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 ziua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întâ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ffffff"/>
                </a:solidFill>
                <a:latin typeface="Arial"/>
              </a:rPr>
              <a:t>Numeralul cardinal 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patru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şapte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douăzeci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cincizeci şi opt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nouă sute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ffffff"/>
                </a:solidFill>
                <a:latin typeface="Arial"/>
              </a:rPr>
              <a:t>Numeralul ordinal 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primul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întâi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a zecea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  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al şaptelea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a IV-a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firstslide"/>
          </p:cNvPr>
          <p:cNvSpPr/>
          <p:nvPr/>
        </p:nvSpPr>
        <p:spPr>
          <a:xfrm>
            <a:off x="7620120" y="5410080"/>
            <a:ext cx="761760" cy="11430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1143000"/>
              <a:gd name="textAreaBottom" fmla="*/ 1093680 h 1143000"/>
            </a:gdLst>
            <a:ahLst/>
            <a:rect l="textAreaLeft" t="textAreaTop" r="textAreaRight" b="textAreaBottom"/>
            <a:pathLst>
              <a:path w="21600" h="32405">
                <a:moveTo>
                  <a:pt x="0" y="0"/>
                </a:moveTo>
                <a:lnTo>
                  <a:pt x="21600" y="0"/>
                </a:lnTo>
                <a:lnTo>
                  <a:pt x="21600" y="32405"/>
                </a:lnTo>
                <a:lnTo>
                  <a:pt x="0" y="32405"/>
                </a:lnTo>
                <a:close/>
              </a:path>
              <a:path fill="lightenLess" w="21600" h="3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5">
                <a:moveTo>
                  <a:pt x="21600" y="0"/>
                </a:moveTo>
                <a:lnTo>
                  <a:pt x="21600" y="32405"/>
                </a:lnTo>
                <a:lnTo>
                  <a:pt x="20200" y="31005"/>
                </a:lnTo>
                <a:lnTo>
                  <a:pt x="20200" y="1400"/>
                </a:lnTo>
                <a:close/>
              </a:path>
              <a:path fill="darkenLess" w="21600" h="32405">
                <a:moveTo>
                  <a:pt x="21600" y="32405"/>
                </a:moveTo>
                <a:lnTo>
                  <a:pt x="0" y="32405"/>
                </a:lnTo>
                <a:lnTo>
                  <a:pt x="1400" y="31005"/>
                </a:lnTo>
                <a:lnTo>
                  <a:pt x="20200" y="31005"/>
                </a:lnTo>
                <a:close/>
              </a:path>
              <a:path fill="lighten" w="21600" h="32405">
                <a:moveTo>
                  <a:pt x="0" y="3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5"/>
                </a:lnTo>
                <a:close/>
              </a:path>
              <a:path fill="darken" w="21600" h="32405">
                <a:moveTo>
                  <a:pt x="10800" y="9240"/>
                </a:moveTo>
                <a:lnTo>
                  <a:pt x="13376" y="11851"/>
                </a:lnTo>
                <a:lnTo>
                  <a:pt x="13376" y="10110"/>
                </a:lnTo>
                <a:lnTo>
                  <a:pt x="15152" y="10110"/>
                </a:lnTo>
                <a:lnTo>
                  <a:pt x="15152" y="13626"/>
                </a:lnTo>
                <a:lnTo>
                  <a:pt x="17763" y="16203"/>
                </a:lnTo>
                <a:lnTo>
                  <a:pt x="16109" y="16203"/>
                </a:lnTo>
                <a:lnTo>
                  <a:pt x="16109" y="23392"/>
                </a:lnTo>
                <a:lnTo>
                  <a:pt x="5491" y="23392"/>
                </a:lnTo>
                <a:lnTo>
                  <a:pt x="5491" y="16203"/>
                </a:lnTo>
                <a:lnTo>
                  <a:pt x="3837" y="16203"/>
                </a:lnTo>
                <a:close/>
              </a:path>
              <a:path fill="darkenLess" w="21600" h="32405">
                <a:moveTo>
                  <a:pt x="13376" y="11851"/>
                </a:moveTo>
                <a:lnTo>
                  <a:pt x="13376" y="10110"/>
                </a:lnTo>
                <a:lnTo>
                  <a:pt x="15152" y="10110"/>
                </a:lnTo>
                <a:lnTo>
                  <a:pt x="15152" y="13626"/>
                </a:lnTo>
                <a:close/>
              </a:path>
              <a:path fill="darkenLess" w="21600" h="32405">
                <a:moveTo>
                  <a:pt x="9877" y="19701"/>
                </a:moveTo>
                <a:lnTo>
                  <a:pt x="11723" y="19701"/>
                </a:lnTo>
                <a:lnTo>
                  <a:pt x="11723" y="23392"/>
                </a:lnTo>
                <a:lnTo>
                  <a:pt x="16109" y="23392"/>
                </a:lnTo>
                <a:lnTo>
                  <a:pt x="16109" y="16203"/>
                </a:lnTo>
                <a:lnTo>
                  <a:pt x="5491" y="16203"/>
                </a:lnTo>
                <a:lnTo>
                  <a:pt x="5491" y="23392"/>
                </a:lnTo>
                <a:lnTo>
                  <a:pt x="9877" y="23392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ffffff"/>
                </a:solidFill>
                <a:latin typeface="Arial"/>
              </a:rPr>
              <a:t>Numeral cu valoare adjectivală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Trei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băieţi alergau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ffffff"/>
                </a:solidFill>
                <a:latin typeface="Arial"/>
              </a:rPr>
              <a:t>Numeral cu valoare substantivală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Trei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alergau pe stradă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>
            <a:off x="7696080" y="5410080"/>
            <a:ext cx="1067040" cy="1143000"/>
          </a:xfrm>
          <a:custGeom>
            <a:avLst/>
            <a:gdLst>
              <a:gd name="textAreaLeft" fmla="*/ 69120 w 1067040"/>
              <a:gd name="textAreaRight" fmla="*/ 997920 w 106704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37">
                <a:moveTo>
                  <a:pt x="0" y="0"/>
                </a:moveTo>
                <a:lnTo>
                  <a:pt x="21600" y="0"/>
                </a:lnTo>
                <a:lnTo>
                  <a:pt x="21600" y="23137"/>
                </a:lnTo>
                <a:lnTo>
                  <a:pt x="0" y="23137"/>
                </a:lnTo>
                <a:close/>
              </a:path>
              <a:path fill="lightenLess" w="21600" h="23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7">
                <a:moveTo>
                  <a:pt x="21600" y="0"/>
                </a:moveTo>
                <a:lnTo>
                  <a:pt x="21600" y="23137"/>
                </a:lnTo>
                <a:lnTo>
                  <a:pt x="20200" y="21737"/>
                </a:lnTo>
                <a:lnTo>
                  <a:pt x="20200" y="1400"/>
                </a:lnTo>
                <a:close/>
              </a:path>
              <a:path fill="darkenLess" w="21600" h="23137">
                <a:moveTo>
                  <a:pt x="21600" y="23137"/>
                </a:moveTo>
                <a:lnTo>
                  <a:pt x="0" y="23137"/>
                </a:lnTo>
                <a:lnTo>
                  <a:pt x="1400" y="21737"/>
                </a:lnTo>
                <a:lnTo>
                  <a:pt x="20200" y="21737"/>
                </a:lnTo>
                <a:close/>
              </a:path>
              <a:path fill="lighten" w="21600" h="23137">
                <a:moveTo>
                  <a:pt x="0" y="23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7"/>
                </a:lnTo>
                <a:close/>
              </a:path>
              <a:path fill="darken" w="21600" h="23137">
                <a:moveTo>
                  <a:pt x="10800" y="4606"/>
                </a:moveTo>
                <a:lnTo>
                  <a:pt x="13376" y="7217"/>
                </a:lnTo>
                <a:lnTo>
                  <a:pt x="13376" y="5476"/>
                </a:lnTo>
                <a:lnTo>
                  <a:pt x="15152" y="5476"/>
                </a:lnTo>
                <a:lnTo>
                  <a:pt x="15152" y="8992"/>
                </a:lnTo>
                <a:lnTo>
                  <a:pt x="17763" y="11569"/>
                </a:lnTo>
                <a:lnTo>
                  <a:pt x="16109" y="11569"/>
                </a:lnTo>
                <a:lnTo>
                  <a:pt x="16109" y="18758"/>
                </a:lnTo>
                <a:lnTo>
                  <a:pt x="5491" y="18758"/>
                </a:lnTo>
                <a:lnTo>
                  <a:pt x="5491" y="11569"/>
                </a:lnTo>
                <a:lnTo>
                  <a:pt x="3837" y="11569"/>
                </a:lnTo>
                <a:close/>
              </a:path>
              <a:path fill="darkenLess" w="21600" h="23137">
                <a:moveTo>
                  <a:pt x="13376" y="7217"/>
                </a:moveTo>
                <a:lnTo>
                  <a:pt x="13376" y="5476"/>
                </a:lnTo>
                <a:lnTo>
                  <a:pt x="15152" y="5476"/>
                </a:lnTo>
                <a:lnTo>
                  <a:pt x="15152" y="8992"/>
                </a:lnTo>
                <a:close/>
              </a:path>
              <a:path fill="darkenLess" w="21600" h="23137">
                <a:moveTo>
                  <a:pt x="9877" y="15067"/>
                </a:moveTo>
                <a:lnTo>
                  <a:pt x="11723" y="15067"/>
                </a:lnTo>
                <a:lnTo>
                  <a:pt x="11723" y="18758"/>
                </a:lnTo>
                <a:lnTo>
                  <a:pt x="16109" y="18758"/>
                </a:lnTo>
                <a:lnTo>
                  <a:pt x="16109" y="11569"/>
                </a:lnTo>
                <a:lnTo>
                  <a:pt x="5491" y="11569"/>
                </a:lnTo>
                <a:lnTo>
                  <a:pt x="5491" y="18758"/>
                </a:lnTo>
                <a:lnTo>
                  <a:pt x="9877" y="18758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8000" spc="-1" strike="noStrike">
                <a:solidFill>
                  <a:srgbClr val="ffffff"/>
                </a:solidFill>
                <a:latin typeface="Arial"/>
              </a:rPr>
              <a:t>Subiec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4800" spc="-1" strike="noStrike">
                <a:solidFill>
                  <a:srgbClr val="ffff66"/>
                </a:solidFill>
                <a:latin typeface="Arial"/>
              </a:rPr>
              <a:t>A doua</a:t>
            </a: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 a ajuns la destinaţi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5029200"/>
            <a:ext cx="1905120" cy="0"/>
          </a:xfrm>
          <a:prstGeom prst="line">
            <a:avLst/>
          </a:prstGeom>
          <a:ln w="57240">
            <a:solidFill>
              <a:srgbClr val="df1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7200" spc="-1" strike="noStrike">
                <a:solidFill>
                  <a:srgbClr val="ffffff"/>
                </a:solidFill>
                <a:latin typeface="Arial"/>
              </a:rPr>
              <a:t>Nume predicati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Câştigătorii au fost </a:t>
            </a:r>
            <a:r>
              <a:rPr b="0" lang="ro-RO" sz="6000" spc="-1" strike="noStrike">
                <a:solidFill>
                  <a:srgbClr val="ffff66"/>
                </a:solidFill>
                <a:latin typeface="Arial"/>
              </a:rPr>
              <a:t>doi</a:t>
            </a: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4800600"/>
            <a:ext cx="3657600" cy="0"/>
          </a:xfrm>
          <a:prstGeom prst="line">
            <a:avLst/>
          </a:prstGeom>
          <a:ln w="57240">
            <a:solidFill>
              <a:srgbClr val="df1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34120" y="37339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Arial"/>
              </a:rPr>
              <a:t>Predicat nom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8800" spc="-1" strike="noStrike">
                <a:solidFill>
                  <a:srgbClr val="ffffff"/>
                </a:solidFill>
                <a:latin typeface="Arial"/>
              </a:rPr>
              <a:t>Atribu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S-au calificat </a:t>
            </a:r>
            <a:r>
              <a:rPr b="0" lang="ro-RO" sz="6000" spc="-1" strike="noStrike">
                <a:solidFill>
                  <a:srgbClr val="ffff66"/>
                </a:solidFill>
                <a:latin typeface="Arial"/>
              </a:rPr>
              <a:t>trei</a:t>
            </a: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fet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5029200"/>
            <a:ext cx="1066680" cy="0"/>
          </a:xfrm>
          <a:prstGeom prst="line">
            <a:avLst/>
          </a:prstGeom>
          <a:ln w="57240">
            <a:solidFill>
              <a:srgbClr val="df1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8:53:03Z</dcterms:created>
  <dc:creator>THX_COMPUTERS</dc:creator>
  <dc:description/>
  <dc:language>en-US</dc:language>
  <cp:lastModifiedBy>THX_COMPUTERS</cp:lastModifiedBy>
  <dcterms:modified xsi:type="dcterms:W3CDTF">2006-07-13T05:48:06Z</dcterms:modified>
  <cp:revision>4</cp:revision>
  <dc:subject/>
  <dc:title>Numeralul </dc:title>
</cp:coreProperties>
</file>